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B20-B8D3-40FC-91B4-0375866E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6B5-D534-47B2-BF20-24977E42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C8B-03BC-4ED7-8907-A5E91362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AB5-86BE-4E18-904E-23FFB47A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F043-6192-4B97-BB80-1D41F3DE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F065-E901-476E-B62F-78A782C7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1DB6-EA8B-4566-A2C7-02FF33AC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A62A-BA91-42B8-85DF-C0A09557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F639-FECA-4115-B1A6-DEBE5E53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0441-3C10-4B3A-BEDE-C1716821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DF4A-1F7C-42C6-8BD0-6A7C24F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55E-B114-489A-98B9-D7B07AE8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31FE-D882-4BFB-A98B-67B9069B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F08B-24CD-4AA5-B5E9-FAD55A48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B685-0202-491A-9938-5C46EBA2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1B81-22D2-4D75-A678-7AE65C0E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468B-8117-4EED-ABE4-F580AEE8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56C-45F1-4337-BD4A-688A162A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52F-BAEA-4FDF-9F2A-F567909B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53D-FECB-4EA8-83C7-8BCA82A9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D5C-4238-44FB-AD5B-0A3A0B92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7E9-FA98-4A9C-9D03-2697A5A7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F97-414F-4649-95EF-70B6DA23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681-5447-4FCF-B52F-3121255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CA6C-CE85-46C7-91DD-10923D86B9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050A-1C44-4CBC-BE58-73072B098E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inciples of Desig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 for working with the Elements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809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YMMETRICAL BAL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garden the right and left sides are not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t is visually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large green tree and rocks (L) balance the larger rock formation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34040" y="1803240"/>
            <a:ext cx="309564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ymmetrical Balance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14880" y="1600200"/>
            <a:ext cx="2971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PHA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creates a center of attention 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well designed room h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yes are immediately drawn to that point when entering the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be worthy of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dominate the room, but not over power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591160" y="2646360"/>
            <a:ext cx="2381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phasis cont…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5120" y="1930320"/>
            <a:ext cx="5715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phasis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mmon focal points in room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repla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twork arrang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tainment cent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ythm smoothly leads the eyes from one area to another in a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ythm results when an element of design forms an organized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ythm is achieved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 -- REPET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5900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63600" y="3941640"/>
            <a:ext cx="3110040" cy="2189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hen an element o design---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line,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 -- GRAD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created by a gradu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or decrease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506920" y="1600200"/>
            <a:ext cx="254808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73920" y="3941640"/>
            <a:ext cx="1414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 -- RADI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formed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s flow from a central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5900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838160" y="3941640"/>
            <a:ext cx="19605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or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of parts of the sam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different objects in the sam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oportion is 2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proportions are LESS pleasing to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88040" y="1779480"/>
            <a:ext cx="11844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60920" y="3940200"/>
            <a:ext cx="2433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hythm --- OPPO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is form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s meet to form right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5400" y="2298600"/>
            <a:ext cx="36478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por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	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en Rectangl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sides in a ration of 2:3.  short sides are 2/3 the length of the long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en Mean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division of a line midway between ½ and 1/3 of its length (wall arrangements, tying draperies, hanging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lden Section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Division of a line so that the ratio of the smaller to the larger sections is equal to the ratio of the larger sections to the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,3,5,8,13,21,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relative size of an object in relation to other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urnishings are scaled to the space they occupy, they are visually ple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24480" y="3940200"/>
            <a:ext cx="2709720" cy="2190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05520" y="1600200"/>
            <a:ext cx="15447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rnishings need to b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room, furnishings need to be in scale with one another.  Large sofa----large coffe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nishings need to be in scale to the people using them.  A large person---substantial siz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needs small table and 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71800" y="3940200"/>
            <a:ext cx="3657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sual Weigh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ption of weight----that an object  weighs more or less than it really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holstered chair appears to weigh more than a wooden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78640" y="1600200"/>
            <a:ext cx="220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1200" y="3940200"/>
            <a:ext cx="1376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among parts of a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balance, there is a sense of equal weight on both sides of a center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l Bal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identical objects are arranged on both sides of a center point.  Also known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metr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l Balanc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different but equivalent objects are arranged to the sides of a center point.  Also known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ymmetr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YMMETRICAL BAL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garden is symmetrically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and Left sides of the garden are iden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22960" y="1600200"/>
            <a:ext cx="2916000" cy="2189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560" y="3941640"/>
            <a:ext cx="2892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ymmetrical balance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30440" y="1600200"/>
            <a:ext cx="4538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7:00:39Z</dcterms:created>
  <dc:creator>Charlotte-Mecklenburg School District</dc:creator>
  <dc:description/>
  <dc:language>en-US</dc:language>
  <cp:lastModifiedBy>s.brooks</cp:lastModifiedBy>
  <dcterms:modified xsi:type="dcterms:W3CDTF">2009-02-13T19:44:36Z</dcterms:modified>
  <cp:revision>20</cp:revision>
  <dc:subject/>
  <dc:title>Principles of Design</dc:title>
</cp:coreProperties>
</file>